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744A-4E40-4E3A-BA5B-D336F3A09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A980-5125-4014-BDF5-425A3AA3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D5AF-1001-47AB-A2F7-3CDC7667B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66F7-8660-4734-9247-0E07FDEAD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E911-578F-46B5-8B07-157D2F66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9498-46AA-4AB5-834D-8C57EFF1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53BF-5997-4C2C-99E0-FE98AEA4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739A-705D-46C0-AAFD-91DC7D37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3EBD-2982-46B8-A275-E412F694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65C5-5225-498D-9E9B-9E28688D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03C3-6287-4F63-A756-EE36BA50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0998-F276-44FB-B455-4BFEBF1D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D351-3F26-4ADE-8719-4EE49A148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 April 10 &amp; 11, 2012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  Blabberize WKSHT due TODAY!   2.  Europe Map WKSHT due next block </a:t>
            </a:r>
            <a:endParaRPr b="0" lang="en-US" sz="1400" spc="-1" strike="noStrike">
              <a:solidFill>
                <a:srgbClr val="000000"/>
              </a:solidFill>
              <a:latin typeface="Old English Text MT"/>
            </a:endParaRPr>
          </a:p>
        </p:txBody>
      </p:sp>
      <p:pic>
        <p:nvPicPr>
          <p:cNvPr id="42" name="Picture 3" descr="europe outline map"/>
          <p:cNvPicPr/>
          <p:nvPr/>
        </p:nvPicPr>
        <p:blipFill>
          <a:blip r:embed="rId1"/>
          <a:stretch/>
        </p:blipFill>
        <p:spPr>
          <a:xfrm>
            <a:off x="685800" y="380880"/>
            <a:ext cx="7238880" cy="6477120"/>
          </a:xfrm>
          <a:prstGeom prst="rect">
            <a:avLst/>
          </a:prstGeom>
          <a:ln w="0">
            <a:noFill/>
          </a:ln>
        </p:spPr>
      </p:pic>
      <p:sp>
        <p:nvSpPr>
          <p:cNvPr id="43" name="Freeform 4"/>
          <p:cNvSpPr/>
          <p:nvPr/>
        </p:nvSpPr>
        <p:spPr>
          <a:xfrm>
            <a:off x="7116840" y="6456240"/>
            <a:ext cx="217440" cy="401760"/>
          </a:xfrm>
          <a:custGeom>
            <a:avLst/>
            <a:gdLst>
              <a:gd name="textAreaLeft" fmla="*/ 0 w 217440"/>
              <a:gd name="textAreaRight" fmla="*/ 217800 w 217440"/>
              <a:gd name="textAreaTop" fmla="*/ 0 h 401760"/>
              <a:gd name="textAreaBottom" fmla="*/ 402120 h 401760"/>
            </a:gdLst>
            <a:ahLst/>
            <a:rect l="textAreaLeft" t="textAreaTop" r="textAreaRight" b="textAreaBottom"/>
            <a:pathLst>
              <a:path w="137" h="253">
                <a:moveTo>
                  <a:pt x="10" y="0"/>
                </a:moveTo>
                <a:cubicBezTo>
                  <a:pt x="14" y="65"/>
                  <a:pt x="0" y="133"/>
                  <a:pt x="21" y="195"/>
                </a:cubicBezTo>
                <a:cubicBezTo>
                  <a:pt x="29" y="219"/>
                  <a:pt x="106" y="253"/>
                  <a:pt x="137" y="2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048120" y="3505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124080" y="2666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58128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724280" y="2438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1143000" y="5867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600200" y="5791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0" y="533520"/>
            <a:ext cx="434340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4-10 &amp; 11-12 Use Blue book p. 227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the name of the country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51" name="Freeform 12"/>
          <p:cNvSpPr/>
          <p:nvPr/>
        </p:nvSpPr>
        <p:spPr>
          <a:xfrm>
            <a:off x="5006880" y="5878440"/>
            <a:ext cx="465120" cy="682560"/>
          </a:xfrm>
          <a:custGeom>
            <a:avLst/>
            <a:gdLst>
              <a:gd name="textAreaLeft" fmla="*/ 0 w 465120"/>
              <a:gd name="textAreaRight" fmla="*/ 465480 w 465120"/>
              <a:gd name="textAreaTop" fmla="*/ 0 h 682560"/>
              <a:gd name="textAreaBottom" fmla="*/ 682920 h 682560"/>
            </a:gdLst>
            <a:ahLst/>
            <a:rect l="textAreaLeft" t="textAreaTop" r="textAreaRight" b="textAreaBottom"/>
            <a:pathLst>
              <a:path w="293" h="430">
                <a:moveTo>
                  <a:pt x="293" y="0"/>
                </a:moveTo>
                <a:cubicBezTo>
                  <a:pt x="269" y="72"/>
                  <a:pt x="192" y="88"/>
                  <a:pt x="128" y="110"/>
                </a:cubicBezTo>
                <a:cubicBezTo>
                  <a:pt x="104" y="118"/>
                  <a:pt x="97" y="120"/>
                  <a:pt x="73" y="128"/>
                </a:cubicBezTo>
                <a:cubicBezTo>
                  <a:pt x="64" y="131"/>
                  <a:pt x="46" y="137"/>
                  <a:pt x="46" y="137"/>
                </a:cubicBezTo>
                <a:cubicBezTo>
                  <a:pt x="14" y="232"/>
                  <a:pt x="0" y="329"/>
                  <a:pt x="0" y="43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52" name="Freeform 13"/>
          <p:cNvSpPr/>
          <p:nvPr/>
        </p:nvSpPr>
        <p:spPr>
          <a:xfrm>
            <a:off x="7794720" y="4307040"/>
            <a:ext cx="1189080" cy="2155680"/>
          </a:xfrm>
          <a:custGeom>
            <a:avLst/>
            <a:gdLst>
              <a:gd name="textAreaLeft" fmla="*/ 0 w 1189080"/>
              <a:gd name="textAreaRight" fmla="*/ 1189080 w 1189080"/>
              <a:gd name="textAreaTop" fmla="*/ 0 h 2155680"/>
              <a:gd name="textAreaBottom" fmla="*/ 2156040 h 2155680"/>
            </a:gdLst>
            <a:ahLst/>
            <a:rect l="textAreaLeft" t="textAreaTop" r="textAreaRight" b="textAreaBottom"/>
            <a:pathLst>
              <a:path w="749" h="1358">
                <a:moveTo>
                  <a:pt x="64" y="112"/>
                </a:moveTo>
                <a:cubicBezTo>
                  <a:pt x="104" y="108"/>
                  <a:pt x="150" y="116"/>
                  <a:pt x="183" y="94"/>
                </a:cubicBezTo>
                <a:cubicBezTo>
                  <a:pt x="216" y="72"/>
                  <a:pt x="226" y="52"/>
                  <a:pt x="265" y="39"/>
                </a:cubicBezTo>
                <a:cubicBezTo>
                  <a:pt x="323" y="0"/>
                  <a:pt x="390" y="10"/>
                  <a:pt x="439" y="57"/>
                </a:cubicBezTo>
                <a:cubicBezTo>
                  <a:pt x="458" y="115"/>
                  <a:pt x="455" y="159"/>
                  <a:pt x="466" y="222"/>
                </a:cubicBezTo>
                <a:cubicBezTo>
                  <a:pt x="466" y="222"/>
                  <a:pt x="488" y="290"/>
                  <a:pt x="493" y="304"/>
                </a:cubicBezTo>
                <a:cubicBezTo>
                  <a:pt x="496" y="313"/>
                  <a:pt x="503" y="332"/>
                  <a:pt x="503" y="332"/>
                </a:cubicBezTo>
                <a:cubicBezTo>
                  <a:pt x="491" y="428"/>
                  <a:pt x="499" y="427"/>
                  <a:pt x="411" y="441"/>
                </a:cubicBezTo>
                <a:cubicBezTo>
                  <a:pt x="380" y="451"/>
                  <a:pt x="365" y="469"/>
                  <a:pt x="338" y="487"/>
                </a:cubicBezTo>
                <a:cubicBezTo>
                  <a:pt x="332" y="496"/>
                  <a:pt x="324" y="504"/>
                  <a:pt x="320" y="514"/>
                </a:cubicBezTo>
                <a:cubicBezTo>
                  <a:pt x="315" y="526"/>
                  <a:pt x="317" y="540"/>
                  <a:pt x="311" y="551"/>
                </a:cubicBezTo>
                <a:cubicBezTo>
                  <a:pt x="303" y="567"/>
                  <a:pt x="286" y="575"/>
                  <a:pt x="274" y="588"/>
                </a:cubicBezTo>
                <a:cubicBezTo>
                  <a:pt x="264" y="630"/>
                  <a:pt x="255" y="647"/>
                  <a:pt x="274" y="697"/>
                </a:cubicBezTo>
                <a:cubicBezTo>
                  <a:pt x="283" y="719"/>
                  <a:pt x="354" y="729"/>
                  <a:pt x="375" y="734"/>
                </a:cubicBezTo>
                <a:cubicBezTo>
                  <a:pt x="387" y="737"/>
                  <a:pt x="411" y="743"/>
                  <a:pt x="411" y="743"/>
                </a:cubicBezTo>
                <a:cubicBezTo>
                  <a:pt x="474" y="783"/>
                  <a:pt x="405" y="730"/>
                  <a:pt x="448" y="816"/>
                </a:cubicBezTo>
                <a:cubicBezTo>
                  <a:pt x="457" y="833"/>
                  <a:pt x="480" y="839"/>
                  <a:pt x="493" y="853"/>
                </a:cubicBezTo>
                <a:cubicBezTo>
                  <a:pt x="532" y="958"/>
                  <a:pt x="491" y="907"/>
                  <a:pt x="695" y="917"/>
                </a:cubicBezTo>
                <a:cubicBezTo>
                  <a:pt x="701" y="926"/>
                  <a:pt x="713" y="933"/>
                  <a:pt x="713" y="944"/>
                </a:cubicBezTo>
                <a:cubicBezTo>
                  <a:pt x="713" y="969"/>
                  <a:pt x="655" y="1002"/>
                  <a:pt x="640" y="1017"/>
                </a:cubicBezTo>
                <a:cubicBezTo>
                  <a:pt x="606" y="1124"/>
                  <a:pt x="697" y="1177"/>
                  <a:pt x="749" y="1255"/>
                </a:cubicBezTo>
                <a:cubicBezTo>
                  <a:pt x="689" y="1315"/>
                  <a:pt x="583" y="1326"/>
                  <a:pt x="503" y="1356"/>
                </a:cubicBezTo>
                <a:cubicBezTo>
                  <a:pt x="366" y="1351"/>
                  <a:pt x="268" y="1358"/>
                  <a:pt x="146" y="1328"/>
                </a:cubicBezTo>
                <a:cubicBezTo>
                  <a:pt x="101" y="1298"/>
                  <a:pt x="125" y="1319"/>
                  <a:pt x="82" y="1255"/>
                </a:cubicBezTo>
                <a:cubicBezTo>
                  <a:pt x="76" y="1246"/>
                  <a:pt x="64" y="1228"/>
                  <a:pt x="64" y="1228"/>
                </a:cubicBezTo>
                <a:cubicBezTo>
                  <a:pt x="67" y="1216"/>
                  <a:pt x="66" y="1202"/>
                  <a:pt x="73" y="1191"/>
                </a:cubicBezTo>
                <a:cubicBezTo>
                  <a:pt x="91" y="1163"/>
                  <a:pt x="163" y="1152"/>
                  <a:pt x="192" y="1145"/>
                </a:cubicBezTo>
                <a:cubicBezTo>
                  <a:pt x="126" y="1134"/>
                  <a:pt x="68" y="1109"/>
                  <a:pt x="0" y="110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53" name="Freeform 14"/>
          <p:cNvSpPr/>
          <p:nvPr/>
        </p:nvSpPr>
        <p:spPr>
          <a:xfrm>
            <a:off x="5457960" y="1030320"/>
            <a:ext cx="3017880" cy="4876920"/>
          </a:xfrm>
          <a:custGeom>
            <a:avLst/>
            <a:gdLst>
              <a:gd name="textAreaLeft" fmla="*/ 0 w 3017880"/>
              <a:gd name="textAreaRight" fmla="*/ 3018240 w 3017880"/>
              <a:gd name="textAreaTop" fmla="*/ 0 h 4876920"/>
              <a:gd name="textAreaBottom" fmla="*/ 4877280 h 4876920"/>
            </a:gdLst>
            <a:ahLst/>
            <a:rect l="textAreaLeft" t="textAreaTop" r="textAreaRight" b="textAreaBottom"/>
            <a:pathLst>
              <a:path w="1901" h="3072">
                <a:moveTo>
                  <a:pt x="0" y="3072"/>
                </a:moveTo>
                <a:cubicBezTo>
                  <a:pt x="24" y="3035"/>
                  <a:pt x="39" y="3027"/>
                  <a:pt x="82" y="3017"/>
                </a:cubicBezTo>
                <a:cubicBezTo>
                  <a:pt x="132" y="2984"/>
                  <a:pt x="197" y="2971"/>
                  <a:pt x="256" y="2962"/>
                </a:cubicBezTo>
                <a:cubicBezTo>
                  <a:pt x="299" y="2955"/>
                  <a:pt x="384" y="2944"/>
                  <a:pt x="384" y="2944"/>
                </a:cubicBezTo>
                <a:cubicBezTo>
                  <a:pt x="393" y="2938"/>
                  <a:pt x="401" y="2931"/>
                  <a:pt x="411" y="2926"/>
                </a:cubicBezTo>
                <a:cubicBezTo>
                  <a:pt x="420" y="2922"/>
                  <a:pt x="431" y="2922"/>
                  <a:pt x="439" y="2917"/>
                </a:cubicBezTo>
                <a:cubicBezTo>
                  <a:pt x="456" y="2907"/>
                  <a:pt x="468" y="2891"/>
                  <a:pt x="484" y="2880"/>
                </a:cubicBezTo>
                <a:cubicBezTo>
                  <a:pt x="507" y="2815"/>
                  <a:pt x="492" y="2841"/>
                  <a:pt x="521" y="2798"/>
                </a:cubicBezTo>
                <a:cubicBezTo>
                  <a:pt x="539" y="2804"/>
                  <a:pt x="560" y="2805"/>
                  <a:pt x="576" y="2816"/>
                </a:cubicBezTo>
                <a:cubicBezTo>
                  <a:pt x="585" y="2822"/>
                  <a:pt x="593" y="2830"/>
                  <a:pt x="603" y="2834"/>
                </a:cubicBezTo>
                <a:cubicBezTo>
                  <a:pt x="621" y="2842"/>
                  <a:pt x="640" y="2847"/>
                  <a:pt x="658" y="2853"/>
                </a:cubicBezTo>
                <a:cubicBezTo>
                  <a:pt x="667" y="2856"/>
                  <a:pt x="685" y="2862"/>
                  <a:pt x="685" y="2862"/>
                </a:cubicBezTo>
                <a:cubicBezTo>
                  <a:pt x="722" y="2897"/>
                  <a:pt x="784" y="2906"/>
                  <a:pt x="832" y="2917"/>
                </a:cubicBezTo>
                <a:cubicBezTo>
                  <a:pt x="907" y="2933"/>
                  <a:pt x="986" y="2972"/>
                  <a:pt x="1060" y="2981"/>
                </a:cubicBezTo>
                <a:cubicBezTo>
                  <a:pt x="1097" y="2986"/>
                  <a:pt x="1133" y="2987"/>
                  <a:pt x="1170" y="2990"/>
                </a:cubicBezTo>
                <a:cubicBezTo>
                  <a:pt x="1173" y="2999"/>
                  <a:pt x="1172" y="3010"/>
                  <a:pt x="1179" y="3017"/>
                </a:cubicBezTo>
                <a:cubicBezTo>
                  <a:pt x="1186" y="3024"/>
                  <a:pt x="1198" y="3023"/>
                  <a:pt x="1207" y="3026"/>
                </a:cubicBezTo>
                <a:cubicBezTo>
                  <a:pt x="1216" y="3029"/>
                  <a:pt x="1225" y="3032"/>
                  <a:pt x="1234" y="3036"/>
                </a:cubicBezTo>
                <a:cubicBezTo>
                  <a:pt x="1244" y="3041"/>
                  <a:pt x="1251" y="3050"/>
                  <a:pt x="1261" y="3054"/>
                </a:cubicBezTo>
                <a:cubicBezTo>
                  <a:pt x="1279" y="3062"/>
                  <a:pt x="1316" y="3072"/>
                  <a:pt x="1316" y="3072"/>
                </a:cubicBezTo>
                <a:cubicBezTo>
                  <a:pt x="1377" y="3052"/>
                  <a:pt x="1375" y="3022"/>
                  <a:pt x="1325" y="2990"/>
                </a:cubicBezTo>
                <a:cubicBezTo>
                  <a:pt x="1322" y="2981"/>
                  <a:pt x="1322" y="2970"/>
                  <a:pt x="1316" y="2962"/>
                </a:cubicBezTo>
                <a:cubicBezTo>
                  <a:pt x="1309" y="2953"/>
                  <a:pt x="1294" y="2953"/>
                  <a:pt x="1289" y="2944"/>
                </a:cubicBezTo>
                <a:cubicBezTo>
                  <a:pt x="1235" y="2849"/>
                  <a:pt x="1315" y="2931"/>
                  <a:pt x="1261" y="2880"/>
                </a:cubicBezTo>
                <a:cubicBezTo>
                  <a:pt x="1227" y="2778"/>
                  <a:pt x="1280" y="2743"/>
                  <a:pt x="1362" y="2716"/>
                </a:cubicBezTo>
                <a:cubicBezTo>
                  <a:pt x="1354" y="2647"/>
                  <a:pt x="1357" y="2559"/>
                  <a:pt x="1280" y="2533"/>
                </a:cubicBezTo>
                <a:cubicBezTo>
                  <a:pt x="1258" y="2511"/>
                  <a:pt x="1225" y="2460"/>
                  <a:pt x="1225" y="2460"/>
                </a:cubicBezTo>
                <a:cubicBezTo>
                  <a:pt x="1233" y="2369"/>
                  <a:pt x="1224" y="2341"/>
                  <a:pt x="1307" y="2313"/>
                </a:cubicBezTo>
                <a:cubicBezTo>
                  <a:pt x="1322" y="2316"/>
                  <a:pt x="1339" y="2316"/>
                  <a:pt x="1353" y="2322"/>
                </a:cubicBezTo>
                <a:cubicBezTo>
                  <a:pt x="1361" y="2325"/>
                  <a:pt x="1363" y="2344"/>
                  <a:pt x="1371" y="2341"/>
                </a:cubicBezTo>
                <a:cubicBezTo>
                  <a:pt x="1395" y="2333"/>
                  <a:pt x="1371" y="2286"/>
                  <a:pt x="1389" y="2268"/>
                </a:cubicBezTo>
                <a:cubicBezTo>
                  <a:pt x="1403" y="2254"/>
                  <a:pt x="1426" y="2255"/>
                  <a:pt x="1444" y="2249"/>
                </a:cubicBezTo>
                <a:cubicBezTo>
                  <a:pt x="1453" y="2246"/>
                  <a:pt x="1472" y="2240"/>
                  <a:pt x="1472" y="2240"/>
                </a:cubicBezTo>
                <a:cubicBezTo>
                  <a:pt x="1481" y="2234"/>
                  <a:pt x="1489" y="2227"/>
                  <a:pt x="1499" y="2222"/>
                </a:cubicBezTo>
                <a:cubicBezTo>
                  <a:pt x="1508" y="2218"/>
                  <a:pt x="1519" y="2218"/>
                  <a:pt x="1527" y="2213"/>
                </a:cubicBezTo>
                <a:cubicBezTo>
                  <a:pt x="1534" y="2208"/>
                  <a:pt x="1537" y="2197"/>
                  <a:pt x="1545" y="2194"/>
                </a:cubicBezTo>
                <a:cubicBezTo>
                  <a:pt x="1568" y="2185"/>
                  <a:pt x="1618" y="2176"/>
                  <a:pt x="1618" y="2176"/>
                </a:cubicBezTo>
                <a:cubicBezTo>
                  <a:pt x="1651" y="2154"/>
                  <a:pt x="1672" y="2124"/>
                  <a:pt x="1709" y="2112"/>
                </a:cubicBezTo>
                <a:cubicBezTo>
                  <a:pt x="1737" y="2035"/>
                  <a:pt x="1740" y="1952"/>
                  <a:pt x="1764" y="1874"/>
                </a:cubicBezTo>
                <a:cubicBezTo>
                  <a:pt x="1768" y="1861"/>
                  <a:pt x="1778" y="1851"/>
                  <a:pt x="1783" y="1838"/>
                </a:cubicBezTo>
                <a:cubicBezTo>
                  <a:pt x="1790" y="1820"/>
                  <a:pt x="1801" y="1783"/>
                  <a:pt x="1801" y="1783"/>
                </a:cubicBezTo>
                <a:cubicBezTo>
                  <a:pt x="1809" y="1719"/>
                  <a:pt x="1818" y="1655"/>
                  <a:pt x="1828" y="1591"/>
                </a:cubicBezTo>
                <a:cubicBezTo>
                  <a:pt x="1831" y="1545"/>
                  <a:pt x="1836" y="1500"/>
                  <a:pt x="1837" y="1454"/>
                </a:cubicBezTo>
                <a:cubicBezTo>
                  <a:pt x="1842" y="1299"/>
                  <a:pt x="1839" y="1143"/>
                  <a:pt x="1847" y="988"/>
                </a:cubicBezTo>
                <a:cubicBezTo>
                  <a:pt x="1849" y="951"/>
                  <a:pt x="1865" y="878"/>
                  <a:pt x="1865" y="878"/>
                </a:cubicBezTo>
                <a:cubicBezTo>
                  <a:pt x="1871" y="584"/>
                  <a:pt x="1901" y="293"/>
                  <a:pt x="1901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54" name="Text Box 15"/>
          <p:cNvSpPr/>
          <p:nvPr/>
        </p:nvSpPr>
        <p:spPr>
          <a:xfrm rot="5400000">
            <a:off x="7383240" y="221616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al Mts.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8229600" y="3886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ia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7543800" y="480060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pian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5486400" y="54864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     Sea</a:t>
            </a:r>
            <a:endParaRPr b="0" lang="en-US" sz="12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58" name="TextBox 20"/>
          <p:cNvSpPr/>
          <p:nvPr/>
        </p:nvSpPr>
        <p:spPr>
          <a:xfrm>
            <a:off x="3276720" y="1981080"/>
            <a:ext cx="1752480" cy="825480"/>
          </a:xfrm>
          <a:prstGeom prst="rect">
            <a:avLst/>
          </a:prstGeom>
          <a:solidFill>
            <a:srgbClr val="ef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dern No. 20"/>
              </a:rPr>
              <a:t>Scandinavia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59" name="TextBox 21"/>
          <p:cNvSpPr/>
          <p:nvPr/>
        </p:nvSpPr>
        <p:spPr>
          <a:xfrm>
            <a:off x="2286000" y="6027840"/>
            <a:ext cx="1219320" cy="916920"/>
          </a:xfrm>
          <a:prstGeom prst="rect">
            <a:avLst/>
          </a:prstGeom>
          <a:solidFill>
            <a:srgbClr val="ef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dern No. 20"/>
              </a:rPr>
              <a:t>Iberian Peninsula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60" name="Down Arrow 22"/>
          <p:cNvSpPr/>
          <p:nvPr/>
        </p:nvSpPr>
        <p:spPr>
          <a:xfrm rot="5641200">
            <a:off x="2081880" y="5937840"/>
            <a:ext cx="204840" cy="342720"/>
          </a:xfrm>
          <a:prstGeom prst="downArrow">
            <a:avLst>
              <a:gd name="adj1" fmla="val 50000"/>
              <a:gd name="adj2" fmla="val 49961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61" name="TextBox 23"/>
          <p:cNvSpPr/>
          <p:nvPr/>
        </p:nvSpPr>
        <p:spPr>
          <a:xfrm>
            <a:off x="457200" y="1295280"/>
            <a:ext cx="1676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nmark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62" name="TextBox 24"/>
          <p:cNvSpPr/>
          <p:nvPr/>
        </p:nvSpPr>
        <p:spPr>
          <a:xfrm>
            <a:off x="457200" y="1752480"/>
            <a:ext cx="1676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rway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63" name="TextBox 25"/>
          <p:cNvSpPr/>
          <p:nvPr/>
        </p:nvSpPr>
        <p:spPr>
          <a:xfrm>
            <a:off x="457200" y="2133720"/>
            <a:ext cx="1676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weden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64" name="TextBox 26"/>
          <p:cNvSpPr/>
          <p:nvPr/>
        </p:nvSpPr>
        <p:spPr>
          <a:xfrm>
            <a:off x="457200" y="2590920"/>
            <a:ext cx="1676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inland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65" name="TextBox 27"/>
          <p:cNvSpPr/>
          <p:nvPr/>
        </p:nvSpPr>
        <p:spPr>
          <a:xfrm>
            <a:off x="457200" y="2971800"/>
            <a:ext cx="144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rtugal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66" name="TextBox 28"/>
          <p:cNvSpPr/>
          <p:nvPr/>
        </p:nvSpPr>
        <p:spPr>
          <a:xfrm>
            <a:off x="457200" y="3429000"/>
            <a:ext cx="990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pain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pages.uoregon.edu/dluebke/WesternCiv102/Europe1400.jpg"/>
          <p:cNvPicPr/>
          <p:nvPr/>
        </p:nvPicPr>
        <p:blipFill>
          <a:blip r:embed="rId1"/>
          <a:stretch/>
        </p:blipFill>
        <p:spPr>
          <a:xfrm>
            <a:off x="762120" y="446040"/>
            <a:ext cx="7586640" cy="641196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2514600" y="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loucester MT Extra Condensed"/>
              </a:rPr>
              <a:t>Divisions of Europe in the 1400s</a:t>
            </a:r>
            <a:endParaRPr b="0" lang="en-US" sz="28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map 1648"/>
          <p:cNvPicPr/>
          <p:nvPr/>
        </p:nvPicPr>
        <p:blipFill>
          <a:blip r:embed="rId1"/>
          <a:srcRect l="0" t="3630" r="4081" b="0"/>
          <a:stretch/>
        </p:blipFill>
        <p:spPr>
          <a:xfrm>
            <a:off x="533520" y="316080"/>
            <a:ext cx="8229600" cy="63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d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http://www.youreuropemap.com/europe_map_political.gif"/>
          <p:cNvPicPr/>
          <p:nvPr/>
        </p:nvPicPr>
        <p:blipFill>
          <a:blip r:embed="rId1"/>
          <a:stretch/>
        </p:blipFill>
        <p:spPr>
          <a:xfrm>
            <a:off x="304920" y="0"/>
            <a:ext cx="856764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7772400" y="0"/>
            <a:ext cx="914400" cy="762120"/>
          </a:xfrm>
          <a:prstGeom prst="rect">
            <a:avLst/>
          </a:prstGeom>
          <a:solidFill>
            <a:srgbClr val="83f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0" y="0"/>
            <a:ext cx="8991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on the following this class period: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Blabberize WORKSHEET and turn in TODAY.  Record your monologue on Audacity.  I will show you how to upload to Blabberize.  We will link our Blabberize to your wiki page when you have finished recording.  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Europe Map Worksheet—Turn into Homeroom Tray-- Today.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on Big Europe Map.  Use page 227 or Sheppards Software (find link on wiki)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ctice locating European countries—go to the wiki and click on the links for different review games.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pic>
        <p:nvPicPr>
          <p:cNvPr id="73" name="Picture 6" descr="http://continents.mrdonn.org/bannereurope.gif"/>
          <p:cNvPicPr/>
          <p:nvPr/>
        </p:nvPicPr>
        <p:blipFill>
          <a:blip r:embed="rId1"/>
          <a:stretch/>
        </p:blipFill>
        <p:spPr>
          <a:xfrm>
            <a:off x="2514600" y="5038560"/>
            <a:ext cx="375300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18:32:20Z</dcterms:created>
  <dc:creator>Barbershill</dc:creator>
  <dc:description/>
  <dc:language>en-US</dc:language>
  <cp:lastModifiedBy>poweruser</cp:lastModifiedBy>
  <dcterms:modified xsi:type="dcterms:W3CDTF">2012-04-11T15:16:29Z</dcterms:modified>
  <cp:revision>66</cp:revision>
  <dc:subject/>
  <dc:title>PowerPoint Presentation</dc:title>
</cp:coreProperties>
</file>